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89F-20C2-4D3A-A9E0-2BC6844E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7F8-EC1C-4300-8D40-F33DEB59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39CBE-9F4F-4FA4-A6E4-154B69E0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DF77E-9A5F-47FF-BFE6-1A99DE9D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49BBD-4AFD-4799-8A78-7DFF81D2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78CE7-BF13-4C68-83C4-90FB02DC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F51C2-652F-4449-8E9F-0A0B464C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7F895-CAF3-4DE5-A1D8-89AF23A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550CC-B7F2-4CEB-AACB-BC778E96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00E9C-8F9B-437B-AE67-F7B600D4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60EDC-B0E5-4CE9-88CE-74B5D5CB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09E42-062D-433E-A125-0C1664AF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A4F-ED29-4878-BFF6-8359ADE0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447FC-583B-4C8D-A7A7-300626D9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13AA4-A292-48EF-B337-F6E6089E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4B753-EDA0-43E4-B762-0DCC24C3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04F53-9A9B-46C0-A019-68120AE4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E21A5-9B3E-4D71-AD4E-0F0D6562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50544-23BB-4C7D-9EB3-0E433A5C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21F3F-584E-41B1-B086-1942D989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BCF57-34E0-422A-90E7-CDE310F9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22A5C-65DE-4C9D-A418-70578E74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2CA32-13ED-4B41-8DD2-D404B00F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B13-9CFA-4B61-80F0-5BB68C43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8854B-83ED-445E-A128-15C3346B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01BEC-7C1C-476B-A0C4-D1BB7648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858BA-2E78-415D-8DDF-9F2A0BB0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B2978-AFAB-4807-BACA-CE7222DF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62CD3-D1FB-43D2-AB17-D64C48F9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B353C-630A-4D29-9BB3-8685F275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9EA40-055A-4DAE-8321-6A529D68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5961D-CBCC-43E4-B51C-F79638BD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C8FC0-15B6-431A-A541-DD3C4E3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6F6F5-2D5E-4531-8B1C-D817FC66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5558-9A7E-4A86-9BC7-5CBB1E4A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C9AC6-6F21-4BB2-8269-77A01B4F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07B00-B4C1-491C-A471-A6710707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CD134-58FD-4385-89C5-22D9C3DE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FA252-A84B-492A-8749-72A54D27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35F46-85C9-47EC-8D4C-C23E08DA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69FCF-BBA9-4CBB-950B-85F4549E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45D94-63A2-4DF8-9969-567FDA98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3CB5A-4E97-4308-8646-03AEFB0F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6D599-30C8-47A5-883A-463D4556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28B6B-8837-4CC0-A966-81E06619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2252-3859-401F-85D8-A1F1812A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45627-B0BB-4469-952B-38B1C69A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6D94F-98BE-4FAC-AA7C-9D6043B9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18043-BCD4-4101-8E4E-E9434288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983B6-D18D-4845-9461-639EC96C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FB300-9D7D-4607-9041-69005EAF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D1512-048F-4AD7-895D-2B091D88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B6145-EA87-4EDB-86D8-0A9B528F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10FC2-4A4B-4431-A0A8-548084A7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6D3C1-5A3E-4A32-B27C-161C1EB8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43077-6FF3-44D4-8575-65C222D3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A369-8044-4A29-A11C-15A1E8E9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8DCB0-5669-45B3-B074-BED55AFF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8AD53-9D2E-4C24-A8F8-06E77A4B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44E89-1C99-4AD7-B020-88D184AC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CDEAB-03BD-454D-B14A-4A6E6D2E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27E9F-A683-41AC-8960-B8E045EA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EFBCA-83F4-42C5-B80D-EBE24903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14221-5B9B-4860-83F2-6ABFB3E7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D14F8-114D-451C-A148-28DF6717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422AA-C4B8-42D8-BEDE-13FE61C9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5F2CE-49ED-4F62-BC71-E7F23842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D201-8032-4009-BC01-53002D7F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A31AF-C792-48D4-BDA2-3A09626E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FD4AE-4FF6-4C78-A3B0-62CA519D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6CA45-6018-4C48-8CCC-E4F1B6DF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31FD5-3BD4-41A6-A6C9-AE1B5B16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ED8502-C70C-4238-84F3-49D372FC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123BE-1737-455D-932A-2FECC7F8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75A3D-BEC3-4BE2-8A7B-08CBACFB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12621-66A4-4EDC-BB9F-4813E8C8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658AA-5FED-454F-AE90-DEA79D7D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4AEF0-632C-4BE6-8C22-2DC6D836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8405-FCE9-4B51-AB64-45BC1A50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D15AB-7C5D-4CBD-B2FC-E075EDAD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63B1F9-0515-40C5-82A1-C1A7E425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25CE8-EA30-4815-8239-FDD61EF6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C8565-B88B-42A1-A4B2-497E6164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39DEC-5FAD-4425-A330-54EACE99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F04F8-7333-4EF9-AD31-8D21449B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10413F-F79F-4A73-B32C-47BD9BB6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B963B-0D1C-447B-916A-9508D5E7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E65F38-124E-41BA-AC7D-4F69E667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45A7D-0E1D-4F4F-97A3-DBA6F912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8EDC-235E-43CD-851E-DD45EF1E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7C941-3573-4FE8-8741-C3332FDC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D1B36-2CE3-4F27-B808-D17D85C7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832AF-61BA-460D-A46D-714BC593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2AD74-EF5E-43C5-B62B-EA1BE4CC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627DC4-76B4-4EC8-BCE6-3F981E1F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5B951-CF86-4BDE-8451-BDD77697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FFEA4-19BC-4C7D-A30F-7EF64264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7F94BD-8727-4FE1-9851-EC6D2683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C3D4F-506C-4B49-8A49-7523519F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9F73CF-2CCB-4936-BDC2-BFB2CB50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9367-9AFE-41E0-89FD-B1CA99CA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0D666-A472-4C17-AC5A-2EDCB1DB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1E275-64BE-4917-BCC4-41345BF7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98700-3291-4E15-B076-353F4779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530B2-AC5F-4C26-9B4C-FABF8328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56976-AD06-478E-AAB6-20BA5C44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DC4D61-6982-4807-80C6-153C0F2D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CF2D4-26D8-4456-BD8C-1FCC9BEF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177D1-CEB5-471B-9A82-83341161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20C8CB-512C-44C3-88DC-206C083F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3CFE9-F225-40E6-A163-74A4795F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3FF-9BA1-460C-9BC1-427FA79C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B8A9-659F-4A75-AB10-CAEC1784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AB6B65-11CD-4558-977C-A78C4D53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2A7723-4DA8-4D75-9D29-2999B171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19ADC5-5E0B-4F0A-8D79-D7158ABF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4BA93-B1BE-4BE8-A33E-4DE428C5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4C110-06D3-47C6-9E18-5672169E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DFDB5D-3CAF-4E57-831D-5781F57B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DE7B4-02D4-4B04-B85F-F77D16AC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7C40B2-B748-45AB-92CC-2654B2C7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80561-9D08-4AD8-83EB-BBBCCC76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99EABF-42AF-48FC-BE0D-D0AD7EC4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74E4-CDC1-4723-B405-6B290D17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360B7-76FC-43BB-A40D-740DC7D0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86616-A275-43C5-846C-FB2D5D41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F2B31-258A-42B3-899A-9B265522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35A2BF-920E-4C2B-9C62-4AA65CE6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B548B-CEA7-4E5F-AE5E-3A9981DB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BC0A6-8996-4873-AEE2-3B137D3C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B21A34-8BC1-4BB7-80B5-DC673528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E0BD91-E2B3-4E2B-975D-4EB2EF29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9F9734-3D0F-48C8-8535-4D650209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640328-D57F-4FDC-96E1-00CBCBD2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D181-36EC-46F9-BA6D-DE6A859E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FECB0-3B85-4EE9-A2C2-19E58C1B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7055A7-5046-4D04-9797-69416926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DA0445-162A-4529-9A7D-54449219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C6B7C8-0ECA-4968-B3AD-1F52B8D6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7FA34-F761-4051-BC17-F3E517A1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9CE5E4-6A4D-4EFB-A4D0-3FE2071A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05D349-C6B3-4C4D-9663-C38EAD96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780D5-23B1-40F1-9B3D-79D0B847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27E310-E841-402B-8D30-4E5772CA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23A6C9-453F-4FA2-AE1E-BB709862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1358-EDBE-4176-8BB1-216075DA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385D95-B1B4-4EE2-B835-4193A4B5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6B861A-F879-4E2A-894E-BFD715FB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B36E8C-988C-4BF3-A07E-DD261786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21F2A-463C-4AD1-A994-2B6BB594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232447-70BD-4FC2-B4EE-6D14EA97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EFD233-5D22-45C9-915F-8319269B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C2C41E-21D0-48F9-A758-162FAB01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745F8A-A10C-4683-BBC2-35C54424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AA12AA-3E28-4500-8C7E-AC072F75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BE7C22-AC44-4F43-AA05-5E802A45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EC33-C922-42D2-BC08-0C07F4F6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FC8D41-27D1-4246-9EAC-2F81D1DF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B60187-D6B4-4172-AFF0-F0ADCFF4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449B19-EC7B-46A8-8301-72EB6385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F46421-F43C-4219-A2E0-04821606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36328F-042F-4F2D-9936-ECDDFC75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1EE7C1-6539-4F74-9FBA-64045E95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3566BF-5AD1-452B-A894-9AD6988B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D089C3-B2E9-48C5-96C0-9203C5D2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337E88-F007-45BA-97CA-E6E39A28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4CEB43-F820-463B-BC22-E39E55BF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2F382-1EAF-42AB-B25C-02C33515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3956E0-4CDD-47FB-BF47-4F2F0060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09ED96-D3E3-429A-BE45-4138E019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75194-1845-4CB6-887D-DE7F8828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BC4E-FEBC-4145-A8E4-59232442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0068-AA9C-4662-B111-F4A6E5EA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F8642-8EEF-4E0D-8036-FAF60057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0CD5-D376-4C2E-BD7A-28C6FD41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94A-0E2B-4179-8F8C-CCD3A926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6C5D9-9386-4B51-A0C2-39DB9FBB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67895-4BE3-442D-99C4-10155169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ECFF-ADEA-4D72-BC7F-4B4A28BD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5C7F-CE61-4ADD-B739-90FE80D2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71063-AC43-4E14-9CAC-8D11AACD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7443B-D071-44ED-8095-64BE6E48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AA60-AF94-4CBA-94B0-19AB5229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B574A-3DD1-47B6-BC99-C896CBDB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F535-47B4-444C-8A57-9F520E8E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7D07-E965-4446-919A-415D9EA8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405-34AB-4614-8041-F7428893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20F8E-DDC9-4A08-BC91-DCF96A51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D7BE1-C752-4BDB-904A-844B9B08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3F7F7-1CC7-405B-9401-6C9C62B3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80911-F308-4A3C-9B18-8226AAFD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6F4FE-6FD4-4AB2-B092-03C52524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DE067-A710-4F54-B8AC-0C033BD1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B470-331F-4F1F-8A34-EF115022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8254-F62C-4DEB-A748-4FECD1B0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E783A-AC21-4A7C-92C8-E648E1AB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54C28-EA97-4112-AE06-572E5B4B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818-A22C-40E3-AE42-EBA6A0A2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36262-B49E-4C08-A830-094D7230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C0FD4-0728-479B-B1B5-3A246ED0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6A23C-40A1-4D44-A76A-DCE33FE8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4003F-59B3-412F-9C62-B9C4A53A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5AA44-B6AA-4856-A363-955ED302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1FF2B-3867-4FA8-8E73-0CDAC88D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4BE9B-E1D8-4FC1-A7CA-C2796B5B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2C528-55F8-4B5C-ADFE-66772330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A4043-C5CB-4DBC-B729-143FC547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D657E-2E7C-4DDB-A94F-279079D0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B42-9E1C-4D9C-8A42-20F91273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12E15-9CC5-4F4C-847D-1D9B0E2A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24D21-C133-4740-BB37-D6C450E2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58609-A95E-4622-9EA3-73BE68AF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E70A8-327E-42EF-9C4E-20826745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FAE90-F098-447F-8F7A-FE704679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36736-CEEB-4154-A327-6C1F3B9B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C8755-66BF-4C88-BF06-693521BC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75DD1-EA0A-4C2E-9B4C-078E4381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47EFE-7306-48FD-9D1D-E0A41CFA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97FF8-43B8-49A8-A6CA-BBE8ECA2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419-36C7-4316-B8AA-B7EA11ED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AE0F7-298F-43B5-81A7-0B39FBE6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F5B3B-8843-4DDB-9B2D-45C09715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7B80F-C3B6-46CD-B48E-FA851B08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97DF7-BEFA-4408-9B31-97DB7FEA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1C6EF-1A3F-471A-8F00-F267158F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ADF87-D27C-4C38-8CA8-B085FEB5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CFF34-C8AF-46E5-A600-4708F07F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75582-952A-48CD-B778-648A8F88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A53AE-C170-4C65-A367-1DE5E49A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CD11-A5EE-441C-8A62-2924823C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002-2612-4696-9787-1B0736BF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820DB-CEFE-485D-B0DF-61CF134E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CA4DE-611C-445F-9861-878D6E5F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A0680-AFC6-4944-998F-11460F6B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C061F-38FC-4024-98DF-876C1AD7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C4AE3-7AB0-46BF-82E3-25166B61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31F9C-36DA-46C1-9900-A99A1159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9DE6A-4CAB-4356-A741-F1FCF5EB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0010C-4AB7-453D-B456-2A4BC711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8BF61-6DD3-43F3-B811-F729E3F5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27153-4EAF-42E6-BA6E-9DD45258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45C-1D8E-4FE4-BCCF-DA568000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4031B-58DB-448E-B4E2-6B235108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E3F55-4614-43B3-98EA-AF832406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9B209-9663-4CDF-8E0E-6E8AEFAC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6EA11-771B-4D7E-B3CE-B16B2F3B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B5E7C-6053-48FA-BC67-CD12C30E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AF134-D7CE-47C0-97FF-A0BCE2B5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C4CCA-124C-46B7-B89F-6A06BBDD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AA58F-3114-497D-A4FF-EE9FDEC6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422BA-8C1A-48AB-BCF2-404E6B85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5F048-E926-4FDD-A6FE-11C7D04A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8F4B-1E21-4B4A-B67B-45665E9B6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69EB-351F-481E-A399-FB1BEF6C07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22C1-6378-4494-95CF-BB603FCFA0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170D-7A0F-4E5E-8B1A-71E3DB0DD1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5C2C-D644-4CEE-AEB9-A5EFFDE3E9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AEC4-EFC9-455D-BF2E-812C3D7229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19AE-5236-45BC-9BEE-AE10E2DAB5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E079-DB33-49E2-947B-EC491366F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7EF3-2BAE-4EBE-8E65-93C7B918EE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E184-141A-41C6-83E0-8DFDB460C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60D8-F9F5-419F-843F-1CA79959F1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6B10-0947-4353-AB47-1C31F5A9C2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3D3A-46F8-4CC0-A280-987C6B5478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0B63-D7CE-40CA-A8B8-12381676E7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3086-EEC3-48EA-8CBB-7AA1356AC8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E89A-E4D6-4BD5-AE07-049DA33DB7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A2DF-715C-4E6B-9C48-5527B59698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CB49-E5AE-4AB0-B61F-6EFB687521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3F8D-3369-4AFE-A797-4437DDEF9A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D332-DF4F-48C1-906A-F8B93A3031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78E5-5861-46AC-A607-5EEF31FF31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DA9E-9418-4D05-AA12-E069B8301C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C071-FCE7-4D87-AD05-DB28D3D379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E155-C536-4639-88A4-519F3629EC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5BCB-99F1-4477-A3C1-B86310E5B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8D9E-2A6B-4C9F-B723-391BFB8268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AA8B-9077-4ABF-99CD-1B536E075E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832E-D34A-484D-B311-D9232FA9F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DB78-62CB-419E-8D62-7AB71DB7A3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8B3A-CBF2-4B51-88EC-E61AEE55F7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E188-A975-475B-A9B8-312A71DDF8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D22C-365E-4AA7-BBEE-CE60B7EAF9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39A1-546E-4ACB-982D-1925033F21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F925-CE35-42DF-B96E-2F030E875B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9619-533B-4880-AA68-E998C7F991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88C6-9522-4EC7-85C5-B1B44B120B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C73A-7548-4979-8E42-E999382853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8172-C82C-4575-82E3-65AE98ADB6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B976-2B3D-46DF-8D5F-AFE5BCD284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ABFF-107B-42E7-8A3D-D9A1588F2D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210200" cy="6382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1571760" y="3429000"/>
            <a:ext cx="60102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1" descr=""/>
          <p:cNvPicPr/>
          <p:nvPr/>
        </p:nvPicPr>
        <p:blipFill>
          <a:blip r:embed="rId1"/>
          <a:stretch/>
        </p:blipFill>
        <p:spPr>
          <a:xfrm>
            <a:off x="571680" y="971640"/>
            <a:ext cx="8181720" cy="33145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2"/>
          <a:stretch/>
        </p:blipFill>
        <p:spPr>
          <a:xfrm>
            <a:off x="285840" y="9493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3"/>
          <a:stretch/>
        </p:blipFill>
        <p:spPr>
          <a:xfrm>
            <a:off x="285840" y="13572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4"/>
          <a:stretch/>
        </p:blipFill>
        <p:spPr>
          <a:xfrm>
            <a:off x="285840" y="177480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5"/>
          <a:stretch/>
        </p:blipFill>
        <p:spPr>
          <a:xfrm>
            <a:off x="285840" y="218916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6"/>
          <a:stretch/>
        </p:blipFill>
        <p:spPr>
          <a:xfrm>
            <a:off x="285840" y="259236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7"/>
          <a:stretch/>
        </p:blipFill>
        <p:spPr>
          <a:xfrm>
            <a:off x="285840" y="30002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8"/>
          <a:stretch/>
        </p:blipFill>
        <p:spPr>
          <a:xfrm>
            <a:off x="285840" y="34290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9"/>
          <a:stretch/>
        </p:blipFill>
        <p:spPr>
          <a:xfrm>
            <a:off x="285840" y="3846600"/>
            <a:ext cx="87868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543880" cy="55818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285840" y="3132000"/>
            <a:ext cx="8786880" cy="4302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285840" y="3571920"/>
            <a:ext cx="8786880" cy="8110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285840" y="4378320"/>
            <a:ext cx="8786880" cy="347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285840" y="4667400"/>
            <a:ext cx="8786880" cy="446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6"/>
          <a:stretch/>
        </p:blipFill>
        <p:spPr>
          <a:xfrm>
            <a:off x="285840" y="5216400"/>
            <a:ext cx="8786880" cy="395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7"/>
          <a:stretch/>
        </p:blipFill>
        <p:spPr>
          <a:xfrm>
            <a:off x="285840" y="5632560"/>
            <a:ext cx="87868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333360" y="1390680"/>
            <a:ext cx="8477280" cy="4076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2"/>
          <a:stretch/>
        </p:blipFill>
        <p:spPr>
          <a:xfrm>
            <a:off x="285840" y="347976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285840" y="38782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4"/>
          <a:stretch/>
        </p:blipFill>
        <p:spPr>
          <a:xfrm>
            <a:off x="285840" y="426888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5"/>
          <a:stretch/>
        </p:blipFill>
        <p:spPr>
          <a:xfrm>
            <a:off x="285840" y="46972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6"/>
          <a:stretch/>
        </p:blipFill>
        <p:spPr>
          <a:xfrm>
            <a:off x="285840" y="511488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515440" cy="60865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285840" y="276552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285840" y="31939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285840" y="35719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5"/>
          <a:stretch/>
        </p:blipFill>
        <p:spPr>
          <a:xfrm>
            <a:off x="285840" y="398160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6"/>
          <a:stretch/>
        </p:blipFill>
        <p:spPr>
          <a:xfrm>
            <a:off x="285840" y="4459320"/>
            <a:ext cx="8786880" cy="7635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7"/>
          <a:stretch/>
        </p:blipFill>
        <p:spPr>
          <a:xfrm>
            <a:off x="285840" y="5276880"/>
            <a:ext cx="8786880" cy="7650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8"/>
          <a:stretch/>
        </p:blipFill>
        <p:spPr>
          <a:xfrm>
            <a:off x="285840" y="6091200"/>
            <a:ext cx="8786880" cy="7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572320" cy="53816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2"/>
          <a:stretch/>
        </p:blipFill>
        <p:spPr>
          <a:xfrm>
            <a:off x="285840" y="3011400"/>
            <a:ext cx="6000840" cy="374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285840" y="3429000"/>
            <a:ext cx="6000840" cy="374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4"/>
          <a:stretch/>
        </p:blipFill>
        <p:spPr>
          <a:xfrm>
            <a:off x="285840" y="3857760"/>
            <a:ext cx="6000840" cy="374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5"/>
          <a:stretch/>
        </p:blipFill>
        <p:spPr>
          <a:xfrm>
            <a:off x="285840" y="4268880"/>
            <a:ext cx="6000840" cy="374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6"/>
          <a:stretch/>
        </p:blipFill>
        <p:spPr>
          <a:xfrm>
            <a:off x="285840" y="4646520"/>
            <a:ext cx="6000840" cy="374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7"/>
          <a:stretch/>
        </p:blipFill>
        <p:spPr>
          <a:xfrm>
            <a:off x="285840" y="5105520"/>
            <a:ext cx="6000840" cy="3744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8"/>
          <a:stretch/>
        </p:blipFill>
        <p:spPr>
          <a:xfrm>
            <a:off x="285840" y="549288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9"/>
          <a:stretch/>
        </p:blipFill>
        <p:spPr>
          <a:xfrm>
            <a:off x="285840" y="591192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928800" y="1000080"/>
            <a:ext cx="7315200" cy="16668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2" descr=""/>
          <p:cNvPicPr/>
          <p:nvPr/>
        </p:nvPicPr>
        <p:blipFill>
          <a:blip r:embed="rId2"/>
          <a:stretch/>
        </p:blipFill>
        <p:spPr>
          <a:xfrm>
            <a:off x="762120" y="2747880"/>
            <a:ext cx="7667640" cy="1752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285840" y="1050840"/>
            <a:ext cx="8786880" cy="15559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285840" y="2876400"/>
            <a:ext cx="8786880" cy="6890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5"/>
          <a:stretch/>
        </p:blipFill>
        <p:spPr>
          <a:xfrm>
            <a:off x="285840" y="3703680"/>
            <a:ext cx="87868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420040" cy="58579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2"/>
          <a:stretch/>
        </p:blipFill>
        <p:spPr>
          <a:xfrm>
            <a:off x="285840" y="3408480"/>
            <a:ext cx="5929200" cy="3744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3"/>
          <a:stretch/>
        </p:blipFill>
        <p:spPr>
          <a:xfrm>
            <a:off x="285840" y="3805200"/>
            <a:ext cx="5929200" cy="3747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4"/>
          <a:stretch/>
        </p:blipFill>
        <p:spPr>
          <a:xfrm>
            <a:off x="285840" y="4197240"/>
            <a:ext cx="5929200" cy="374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5"/>
          <a:stretch/>
        </p:blipFill>
        <p:spPr>
          <a:xfrm>
            <a:off x="285840" y="4626000"/>
            <a:ext cx="5929200" cy="3747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6"/>
          <a:stretch/>
        </p:blipFill>
        <p:spPr>
          <a:xfrm>
            <a:off x="285840" y="5072040"/>
            <a:ext cx="5929200" cy="8175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7"/>
          <a:stretch/>
        </p:blipFill>
        <p:spPr>
          <a:xfrm>
            <a:off x="285840" y="5877000"/>
            <a:ext cx="87868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318960" y="1038240"/>
            <a:ext cx="8506080" cy="53910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2"/>
          <a:stretch/>
        </p:blipFill>
        <p:spPr>
          <a:xfrm>
            <a:off x="285840" y="107172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3"/>
          <a:stretch/>
        </p:blipFill>
        <p:spPr>
          <a:xfrm>
            <a:off x="285840" y="14796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4"/>
          <a:stretch/>
        </p:blipFill>
        <p:spPr>
          <a:xfrm>
            <a:off x="285840" y="1908000"/>
            <a:ext cx="8786880" cy="8240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5"/>
          <a:stretch/>
        </p:blipFill>
        <p:spPr>
          <a:xfrm>
            <a:off x="285840" y="2733840"/>
            <a:ext cx="8786880" cy="37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542880" y="1038240"/>
            <a:ext cx="8058240" cy="53910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2"/>
          <a:stretch/>
        </p:blipFill>
        <p:spPr>
          <a:xfrm>
            <a:off x="285840" y="1846440"/>
            <a:ext cx="4786200" cy="3762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3"/>
          <a:stretch/>
        </p:blipFill>
        <p:spPr>
          <a:xfrm>
            <a:off x="285840" y="2274840"/>
            <a:ext cx="4786200" cy="3762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4"/>
          <a:stretch/>
        </p:blipFill>
        <p:spPr>
          <a:xfrm>
            <a:off x="285840" y="269388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5"/>
          <a:stretch/>
        </p:blipFill>
        <p:spPr>
          <a:xfrm>
            <a:off x="285840" y="311148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6"/>
          <a:stretch/>
        </p:blipFill>
        <p:spPr>
          <a:xfrm>
            <a:off x="285840" y="350028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7"/>
          <a:stretch/>
        </p:blipFill>
        <p:spPr>
          <a:xfrm>
            <a:off x="285840" y="3917880"/>
            <a:ext cx="4786200" cy="3762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8"/>
          <a:stretch/>
        </p:blipFill>
        <p:spPr>
          <a:xfrm>
            <a:off x="285840" y="434016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9"/>
          <a:stretch/>
        </p:blipFill>
        <p:spPr>
          <a:xfrm>
            <a:off x="285840" y="47498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10"/>
          <a:stretch/>
        </p:blipFill>
        <p:spPr>
          <a:xfrm>
            <a:off x="285840" y="520704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11"/>
          <a:stretch/>
        </p:blipFill>
        <p:spPr>
          <a:xfrm>
            <a:off x="285840" y="55864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12"/>
          <a:stretch/>
        </p:blipFill>
        <p:spPr>
          <a:xfrm>
            <a:off x="285840" y="6004080"/>
            <a:ext cx="8786880" cy="37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31:41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